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A77-CC12-49E5-930A-0EE975D1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5AD-122B-4003-B2D4-FE10AB7B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3BB-5E9D-422A-8592-E6F03464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110-60EF-410E-970A-1549E830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1427-0577-4AFF-AB57-7FE1106F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43B3-2BA5-4963-AD5D-169B17E0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6633-E6F7-4527-B1C7-6184132D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0C70-4927-4179-B520-1974F203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3015-A57C-48C9-94DA-CA83BF9E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EE44-5F6A-4017-A71E-599C9370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2BF2-D216-4144-ADAE-44AE570F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B3B-7B6C-4039-BAD6-3CABBC3F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6482-70AF-4901-B6B2-E6766BA0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E31E-8B37-43D6-9524-6558D197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ADCB-D7D5-4BAF-85CE-2CB9D04E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10F4-D88A-49E3-914A-2E2C2D99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8C54-B359-43C0-8C5D-F06EB25E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525-0FD1-4B9E-A050-CF04E8D0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7BB-91ED-4298-AB30-8839D401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6A7-235D-45D1-8A18-6F5E6484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D7B-DCDC-4289-AC85-9037E2E6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9D2-E934-4400-8949-1CA7A6A4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C2C-F7E4-40CE-8CEC-E96BEA25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C93-454E-4C62-84EE-20A21209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994D-9EF4-4A5F-8557-7F86A8ED077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7B77-6604-44CE-B923-BF9237EE0A8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plib.ru/literature/proverbs/htm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wisdoms.ru/poslovizi_i_pogovorki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foxdesign.ru/aphorism/topik/t_proverb.html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russianplanet.ru/filblog/ruslit/poslovitsy.htm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9af7d"/>
                </a:solidFill>
                <a:latin typeface="Book Antiqua"/>
              </a:rPr>
              <a:t>Русские пословицы и поговорк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195280" y="5105520"/>
            <a:ext cx="564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af7d"/>
                </a:solidFill>
                <a:latin typeface="Britannic Bold"/>
              </a:rPr>
              <a:t>Проект для 7 класса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97080" y="26366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а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73864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ловица- «это цвет народного ума, самобытной стати; это житейская народная правда, своего рода судебник, никем не судимый.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предел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словица- краткое, вошедшее в речевой оборот и имеющее поучительный смысл, ритмически организованное изречение, в котором отражен социально-исторический опыт люд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говорка- широко распространенное образное выражение, метко определяющее какое-либо жизненное явлени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обенности пословиц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Это всегда обобщени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з каждой пословицы следует выво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словица обретает свой конкретный смысл в реч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еряя первоначальный смысл, она приобретает новы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Это отражение духовного облика нар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обенности поговорк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ишена прямого обобщенного смыс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меет иносказательное выраж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В речи пословица часто становится поговоркой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Легко чужими руками жар загребать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пословиц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Чужими руками жар загребает 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поговор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Пословицы и поговорки часто указывают на эпоху, в которую они появились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Пусто, словно Мамай прошел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указывает на время порабощ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уси иг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Свинью подложить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– происхождение связывают с военным строем древних славян, при котором дружина становилась «клином» или «свиньей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-576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вое собрание пословиц и поговорок – «Повести или пословицы всенароднейшие по алфавиту» - относится к 17 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Ппословицы русского народа» - Даль, 14 ве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Garamond"/>
                <a:hlinkClick r:id="rId2"/>
              </a:rPr>
              <a:t>www.fplib.ru/literature/proverbs/ht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Garamond"/>
                <a:hlinkClick r:id="rId4"/>
              </a:rPr>
              <a:t>www.wisdoms.ru/poslovizi_i_pogovork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Garamond"/>
                <a:hlinkClick r:id="rId6"/>
              </a:rPr>
              <a:t>www.foxdesign.ru/aphorism/topik/t_proverb.htm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Garamond"/>
                <a:hlinkClick r:id="rId8"/>
              </a:rPr>
              <a:t>www.russianplanet.ru/filblog/ruslit/poslovitsy.ht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26:32Z</dcterms:created>
  <dc:creator>User_07</dc:creator>
  <dc:description/>
  <dc:language>en-US</dc:language>
  <cp:lastModifiedBy>User_07</cp:lastModifiedBy>
  <dcterms:modified xsi:type="dcterms:W3CDTF">2009-11-27T07:14:40Z</dcterms:modified>
  <cp:revision>5</cp:revision>
  <dc:subject/>
  <dc:title>Русские пословицы и поговорки</dc:title>
</cp:coreProperties>
</file>